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684-AE6C-4DC9-A0F2-92FB7E79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0C3-89DD-42E0-8650-E6EC489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1D5-5069-4D00-9E70-954D06EC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A1F-97E6-42CD-A530-BAF48E5E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048-5B17-460F-843A-52C8344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41B-475C-4498-B2EE-57786B2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2A6-41A9-4BC6-8D4C-BE1CF266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F97-7976-4A21-8C7D-8E5110C9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F97-D973-4846-948C-88517FB3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74C-C99E-4514-9C06-943FAB9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E14-061D-4156-A0F3-1D11E4B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434-9B6D-4212-9818-3B7EBC8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F20-3FAA-4AD3-AE12-4DA911D6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691135lGdOucJlFy_t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343400"/>
            <a:ext cx="914400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الشمس الغابت عنّا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هالنور اللي ضاع منّ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خلّيك بدالن عنا إنتَ الشمس الما ب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ّا يا يسوع لا 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5165XyvNDoekpU_ph" descr=""/>
          <p:cNvPicPr/>
          <p:nvPr/>
        </p:nvPicPr>
        <p:blipFill>
          <a:blip r:embed="rId1"/>
          <a:stretch/>
        </p:blipFill>
        <p:spPr>
          <a:xfrm>
            <a:off x="32004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00400" cy="10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سوع علّمني حِبّ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اهديني عَ در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طول خليني بقربك يسوع يا أحلى نص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715297pOlRBJDxOQ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57150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ور صُبحك وع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بنهارَك رحنا وج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ا ما عا دروب مش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لدَربَك دربِ الصليب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17:37Z</dcterms:created>
  <dc:creator>SUZANNE.MD</dc:creator>
  <dc:description/>
  <dc:language>en-US</dc:language>
  <cp:lastModifiedBy>SUZANNE.MD</cp:lastModifiedBy>
  <dcterms:modified xsi:type="dcterms:W3CDTF">2003-03-18T06:39:54Z</dcterms:modified>
  <cp:revision>1</cp:revision>
  <dc:subject/>
  <dc:title>PowerPoint Presentation</dc:title>
</cp:coreProperties>
</file>